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7FA-081E-4021-B792-60AE78A9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1F1-3A5D-474C-BB4C-B71F134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FA1-399B-4F52-B0C0-25F7A41B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43C-9524-449E-8D50-71F06171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ED50-20FD-4B69-B143-8B4365C5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CC52-BA5C-4F2F-80DC-975DE9B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55F9-E83F-445B-93AB-518F7B8C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519C-5FED-4CE8-9C4B-D4C48972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0455-F719-447C-A2EF-1807E42F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705-B145-4E22-B410-251D37E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F7D6-E0EC-4869-9935-93EE3AD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174-F7A4-43FC-8D2F-AD13587C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3D5F-F624-49D4-B040-0D62E128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0C2F-6619-48F0-85CB-BE564FB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F64C-BC64-4881-8375-E8312A04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5D0-235D-472D-81FC-E518FB1D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1FFF-9EAB-4744-B4F8-8679EA6C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100-0A26-4ED0-A096-9D2F35C1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F00-D983-4177-A12B-2E9B1B3A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F9C-D3F8-4DFE-800A-2597FCDD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109-A10A-4050-8929-5BF3FAC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76D-19E0-40A0-B002-A49C02E5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9AC-BB6C-43F0-9EEF-855647AD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7D1-E3BB-472C-A524-85F5BF5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AAF6-074C-41CF-A704-03DB5A30D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A6E7-460A-4911-805D-29B9D5904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Goudy Old Style"/>
              </a:rPr>
              <a:t>The Theoretical and the Empirica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Two Pillars of Your Ethnographic Es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Putting the Theoretical with the Empiric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You should find, then, one of three (3) thing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ir theories are corroborated (confirmed).  They hold up, point for 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ir theories are inadequate and in need of modification.  You then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add to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the theory (still staying within the overall framework) by offering new ways of accounting for phenomen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 theories are downright useless.  A new one must be drawn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Theory and Observation: Mutually Inform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Theory needs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Theory is often viewed as “high” because it “sees from abo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However, </a:t>
            </a:r>
            <a:r>
              <a:rPr b="0" i="1" lang="en-US" sz="2000" spc="-1" strike="noStrike">
                <a:solidFill>
                  <a:srgbClr val="ffffff"/>
                </a:solidFill>
                <a:latin typeface="Goudy Old Style"/>
              </a:rPr>
              <a:t>direct observation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 (empirical research) must inform theory for it to be up-to-date, accurate and us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Observation needs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bservation is often viewed as “low” or, alternately, “down-to-earth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bservation unguided by theory may run the danger of finding nothing but random, scattered f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In academia, these two are kept in constant “dialogu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Theory and Observation: Mutually Inform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Putting it on Pa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Overal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Introduction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6172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udy Old Style"/>
              </a:rPr>
              <a:t>*Fuses elements of your proposal’s Introduction and Purpose s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Introduction: To get us started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Theory-situated papers </a:t>
            </a:r>
            <a:r>
              <a:rPr b="0" i="1" lang="en-US" sz="2400" spc="-1" strike="noStrike">
                <a:solidFill>
                  <a:srgbClr val="ffffff"/>
                </a:solidFill>
                <a:latin typeface="Goudy Old Style"/>
              </a:rPr>
              <a:t>begin </a:t>
            </a: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ith theory (“they say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Burkean parlor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You come late.  When you arrive, others have long preceded you, and they are engaged in a heated discussion, a discussion too heated for them to pause and tell you exactly what it is about. […] You listen for a while, until you decide that you have caught the tenor of the argument; then you put in your oar.  Someone answers; you answer him; another comes to your defense; another aligns himself against you. […]  The hour grows late, you must depart.  And you do depart, with the discussion still vigorously in progress.  (qtd. in Graff and Birkenstein 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You “enter the convers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lso called “situating” the pa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nchoring” in previous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Bring the </a:t>
            </a:r>
            <a:r>
              <a:rPr b="0" i="1" lang="en-US" sz="2400" spc="-1" strike="noStrike">
                <a:solidFill>
                  <a:srgbClr val="ffffff"/>
                </a:solidFill>
                <a:latin typeface="Goudy Old Style"/>
              </a:rPr>
              <a:t>unfamiliar academic audience</a:t>
            </a: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 up to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Names and titles of 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Introduction: To get us started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Purpose must be plainly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Research questions (with reference to s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Roughly equivalent to a “thesis state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Thesis statements, however, make claims to be proven later in th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Research questions do not begin with claims; they are, to state the obvious,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questions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 to be later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answered 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in th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May be subdivided as you see 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Methodology: How’d ya do 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hen did you go to your site to do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gain entry to the si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Did you have the appropriate permission to use that site? (Signed consent for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Did you observe, interview, or bo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choose whom to intervie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Did you participate as an “insider” (“participant-observer”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show the “insider” and “outsider” perspectives in your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ere there problems/obstac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as this research intended to serve the community in some w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present your information ethically in your write-u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Results: What’d ya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ck” descriptions/narrations (</a:t>
            </a:r>
            <a:r>
              <a:rPr b="0" i="1" lang="en-US" sz="3200" spc="-1" strike="noStrike">
                <a:solidFill>
                  <a:srgbClr val="ffffff"/>
                </a:solidFill>
                <a:latin typeface="Goudy Old Style"/>
              </a:rPr>
              <a:t>passim*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Scrupulous attention to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Frequent use of interviewee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Data so arranged to answer research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May be subdivided into sections as you see f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6248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udy Old Style"/>
              </a:rPr>
              <a:t>*An academic’s weakness for Latin terms: it means “throughout” or “here and the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Discussion: Whaddya thin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in your reading (theory) ties to what you s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in the theory argues against what you s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other sources, if any, in your background research relates to what you s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other ideas could be explored with your resear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y should this research be interesting/important to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y was it interesting to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May be subdivided as you see 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Discussion: Whaddya thin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most important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 part of the paper since it is here that the findings of the results section are interpreted in light of previous liter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ether the theory holds up or fails in new contexts will be gone into at some leng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Here, the researcher is free to speculate and theorize about why the findings turned up as they 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As this section is the most important, it will also need to be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very highly developed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Theory: The Abstr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Theory.  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Definition 4a from the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Oxford English Dictionary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S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cheme or system of ideas or statements held as an explanation or account of a group of facts or phenomena; a hypothesis that has been confirmed or established by observation or experiment, and is propounded or accepted as accounting for the known facts; a statement of what are held to be the general laws, principles, or causes of something known or observe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Theory: The Abstr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Etymology: “Gr. a looking at, viewing, contemplation, speculation, theory, also a sight, a spectacle, abstr. n. f. (:*) spectator, looker on.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 word is related to our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theater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, which is of course a place one goes to be a spectator or viewer.  According to Sharon Crowley, a theory, then, might be thought of as the viewpoint of the spectator at the theater who has a view of all of the goings-on of the stage.  In one way, the person in the seats has a view of things an actor simply doesn’t.  (But the reverse is also tru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Theory: The Abstr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ory, as it takes a view of a very wide range of different phenomena and seeks to explain their relationships to each other by use of categories, is abstract—separated from particu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Goudy Old Style"/>
              </a:rPr>
              <a:t>E.g., literacy is a social practice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Goudy Old Style"/>
              </a:rPr>
              <a:t>E.g., sponsors seek to gain an advantage (general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ory-driven or theoretical papers are fueled by abstract explanations people have reached from observing several different particular cases, for which general explanations have been offere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Whatever is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general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has necessarily “lost touch with” what actually goes on, at least some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ccecff"/>
                </a:solidFill>
                <a:latin typeface="Goudy Old Style"/>
              </a:rPr>
              <a:t>Empirical: The Concr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" sz="3200" spc="-1" strike="noStrike">
                <a:solidFill>
                  <a:srgbClr val="ffffff"/>
                </a:solidFill>
                <a:latin typeface="Goudy Old Style"/>
              </a:rPr>
              <a:t>Empirical.  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Definition 4 from the </a:t>
            </a:r>
            <a:r>
              <a:rPr b="0" i="1" lang="en" sz="3200" spc="-1" strike="noStrike">
                <a:solidFill>
                  <a:srgbClr val="ffffff"/>
                </a:solidFill>
                <a:latin typeface="Goudy Old Style"/>
              </a:rPr>
              <a:t>OED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Pertaining to, or derived from, experienc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Empirical: The Concr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Etymology: L. </a:t>
            </a:r>
            <a:r>
              <a:rPr b="0" i="1" lang="en" sz="3200" spc="-1" strike="noStrike">
                <a:solidFill>
                  <a:srgbClr val="ffffff"/>
                </a:solidFill>
                <a:latin typeface="Goudy Old Style"/>
              </a:rPr>
              <a:t>empricus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, Gr. -, f. experience, f. skilled, f. in + trial, experi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For “experience,” the word boils down to, “to put to the tes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Empirical: The Concr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An empirically driven paper is one informed by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direct observation or experience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As such, empirical papers involve the writer’s involvement with “real life”—the people, places, sights and sounds of particular locations (context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Your experience with your chosen sites will be a chance for you to “experiment,” in other words, to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test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the theories you have encountered in Brandt, Barton and Hamilton, and Resni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ccecff"/>
                </a:solidFill>
                <a:latin typeface="Goudy Old Style"/>
              </a:rPr>
              <a:t>Putting the Theoretical with the Empirical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ories, as we said above, necessarily lose some touch with reality because they traffic in generaliza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It’s no stretch to say that theorizing is a sophisticated form of stereotyp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Like stereotyping, theorizing focuses on characteristics observed to be common to a group, and then often applies, however provisionally, those characteristics to all members of that grou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But theories, just like stereotypes, can be shown to be insufficient, in need of modification, or just downright wro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In some cases, you might find the theory, while dated, still 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Putting the Theoretical with the Empiric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But how will you know whether the theory is still an adequate explanation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You observ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This is where your site research comes i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You are out to test the validity of Brandt, Barton and Hamilton, and Resnick’s the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23:12Z</dcterms:created>
  <dc:creator>csclab</dc:creator>
  <dc:description/>
  <dc:language>en-US</dc:language>
  <cp:lastModifiedBy>csclab</cp:lastModifiedBy>
  <dcterms:modified xsi:type="dcterms:W3CDTF">2009-02-26T09:30:06Z</dcterms:modified>
  <cp:revision>27</cp:revision>
  <dc:subject/>
  <dc:title>The Theoretical and the Empirical</dc:title>
</cp:coreProperties>
</file>